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CE0-20D8-4A71-B5C8-67DCC7DD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667-7E3D-43FB-9B52-CB35126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719-70FA-4731-ACB9-C846E906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FC8-3BB2-43C1-91FB-15F91511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25888-BCD0-4672-B5CC-B6CF2D1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2B84-1ADC-49EC-A459-4BFE32F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504C-E127-40DD-AD2D-021C01B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510DD-E0DA-4C83-A4AF-420FB1E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2C07-FB50-45FB-8784-664618A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B268E-D1F7-409B-863C-30C656E1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B787-029F-4D27-91F9-7661393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918-BF7E-430B-8C31-E24A51CE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B7DC1-97F9-4931-A1B9-B168EAE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0EC0-7667-44CB-8A20-1BBA6E1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DFEA-03C9-47E8-A7F5-F6FB2BC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BB709-E65D-4AE4-816C-48FE6EDE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A2F2-5876-4BF2-BE0D-EC226E59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2CD-DB78-4B5B-A703-90ECCA2C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CEA-75E6-459F-9628-D2EA2BF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5D2-73EA-4DBD-AF7F-DD4344B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1BA-939E-4D3F-9F55-53A8A4C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688-7615-4D69-9BC0-9144497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62B-067F-4EBB-9F4D-B757FC2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573-FC8A-4D8E-9518-3DA3907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7A0-CB87-4534-A28C-1257EF39E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594-E1C9-4219-A71C-54A4A5ACA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27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143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lkonline.x10hosting.com/gallery/main.php?g2_itemId=147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4800600"/>
            <a:ext cx="7162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uine leader is not a searcher for consensus but a molder of consens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33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193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6858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The M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286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480024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 or civilization that continues to produce soft-minded men purchases its own spiritual death on the installment pl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Martin Luther King Jr. - 389 x 400"/>
          <p:cNvPicPr/>
          <p:nvPr/>
        </p:nvPicPr>
        <p:blipFill>
          <a:blip r:embed="rId2"/>
          <a:stretch/>
        </p:blipFill>
        <p:spPr>
          <a:xfrm>
            <a:off x="34290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57150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e cannot liv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martin-luther-king-colo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286000"/>
            <a:ext cx="281952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can't ride your back unless it's ben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martin-luther-king-fa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447200"/>
            <a:ext cx="280512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1040" y="294840"/>
            <a:ext cx="6373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who won't die for something is not fit to liv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reverend-martin-luther-king"/>
          <p:cNvPicPr/>
          <p:nvPr/>
        </p:nvPicPr>
        <p:blipFill>
          <a:blip r:embed="rId2"/>
          <a:stretch/>
        </p:blipFill>
        <p:spPr>
          <a:xfrm>
            <a:off x="2895480" y="2057400"/>
            <a:ext cx="246708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ight delayed is a right denied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Martin Luther King Jr. - 454 x 566"/>
          <p:cNvPicPr/>
          <p:nvPr/>
        </p:nvPicPr>
        <p:blipFill>
          <a:blip r:embed="rId2"/>
          <a:stretch/>
        </p:blipFill>
        <p:spPr>
          <a:xfrm>
            <a:off x="3276720" y="2965320"/>
            <a:ext cx="2209680" cy="206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37:01Z</dcterms:created>
  <dc:creator>Vanessa Collier</dc:creator>
  <dc:description/>
  <dc:language>en-US</dc:language>
  <cp:lastModifiedBy>Vanessa Collier</cp:lastModifiedBy>
  <dcterms:modified xsi:type="dcterms:W3CDTF">2010-04-12T17:20:24Z</dcterms:modified>
  <cp:revision>6</cp:revision>
  <dc:subject/>
  <dc:title>Slide 1</dc:title>
</cp:coreProperties>
</file>